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37359-0B5E-4812-9F5A-302E187A9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E9980-4754-426C-A3D8-B2CA39012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76720-D34D-46E8-9EE5-EE9BAED22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36D9F-DF99-40BB-962F-B5B5723B6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0B73A-7816-48AB-BE5F-C3A06F795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A4F81-AB39-40E6-B1AA-B4DBE303D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86467-187A-4420-88B8-435EA8507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5E105-06D7-4963-89BD-DDA1323A8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9AC56-A048-4656-A745-F82753105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EF3D6-0A5B-4DF2-8EC7-572ACED0D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95686-4F68-4149-B7FD-8FA9F93ED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C3F5C-BC7C-4D53-8147-9EC3BD464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2FC3-8D00-431A-846D-4DFD2B4779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86" dur="1000" fill="hold"/>
                                        <p:tgtEl>
                                          <p:spTgt spid="55">
                                            <p:txEl>
                                              <p:pRg st="2" end="2"/>
                                            </p:txEl>
                                          </p:spTgt>
                                        </p:tgtEl>
                                        <p:attrNameLst>
                                          <p:attrName>ppt_y</p:attrName>
                                        </p:attrNameLst>
                                      </p:cBhvr>
                                      <p:tavLst>
                                        <p:tav tm="0">
                                          <p:val>
                                            <p:strVal val="#ppt_y"/>
                                          </p:val>
                                        </p:tav>
                                        <p:tav tm="100000">
                                          <p:val>
                                            <p:strVal val="#ppt_y"/>
                                          </p:val>
                                        </p:tav>
                                      </p:tavLst>
                                    </p:anim>
                                    <p:animEffect filter="wipe(right)"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2000"/>
                                        <p:tgtEl>
                                          <p:spTgt spid="55">
                                            <p:txEl>
                                              <p:pRg st="3" end="3"/>
                                            </p:txEl>
                                          </p:spTgt>
                                        </p:tgtEl>
                                      </p:cBhvr>
                                    </p:animEffect>
                                    <p:anim calcmode="lin" valueType="num">
                                      <p:cBhvr additive="repl">
                                        <p:cTn id="93"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4"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